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543-ECC9-47CC-9817-CFED0245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3E7-4FB6-41B0-8010-832A26B2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FE1-EB0A-4117-AD82-08746157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54C-8BB5-4643-8E15-5012845A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3C8-5866-4299-90C0-CEBCE3B4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1B4-4934-4C4E-9509-1EAEBBF5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F5C-F056-4219-9664-089B3925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C9A-8304-492C-A471-2E4ACC94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4D5-709F-4EAE-80E6-8F61B1A9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B41-11C4-48A3-9F9F-C2C07497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4A3-AA18-42E3-AA76-FD712947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099-301D-4E3F-B33D-7BACD8F0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27CF-6984-4B01-A1D7-8CF7C3C162A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l que toma medicinas está mal avis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uídate del enojo y del aire suc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antente en pie por unos instantes luego de com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strucciones para una vida s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onardo  Da Vi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retrases ni prolongues tu visita al retre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 haces ejercicio que no sea exces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o comas cuando no tienes apetito, come livi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astica bien, y cualquier cosa que ingieras que esté bien cocida y sea de ingredientes simp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egúrate de no dormir al mediod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ja que tu vino se mezcle con agua, toma poco y seguido. No entre comidas, no con el estómago vací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ude ser compulsivo y mantente a esta die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0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o te recuestes con tu estómago para arriba y tu cabeza para abaj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1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úbrete bien de noche, con tu cabeza reposante y tu mente aleg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790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2:02:04Z</dcterms:created>
  <dc:creator>Silvia</dc:creator>
  <dc:description/>
  <dc:language>en-US</dc:language>
  <cp:lastModifiedBy>INEA</cp:lastModifiedBy>
  <dcterms:modified xsi:type="dcterms:W3CDTF">2008-09-05T16:34:05Z</dcterms:modified>
  <cp:revision>4</cp:revision>
  <dc:subject/>
  <dc:title>Diapositiva 1</dc:title>
</cp:coreProperties>
</file>